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20BF-01AF-4A88-89BB-293266100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FA90-8026-4B8A-971D-7F4EED36D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3CFE-7448-431A-9F32-6A3838057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1E99-4655-49B5-92CA-7AECAB07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9408-D13E-4650-B8BD-991F4D08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227C-CDFD-422B-AD23-D0C37E77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2584-762B-4223-AEFB-B4900F00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0EF8-4CE6-4FCA-B9D3-0F2E7617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56D0-9AFF-4BCD-946C-B6B4F5D3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2BCD-E039-4D53-BB0F-C10FADD7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3251-8C1F-4B67-A430-0EEAF992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BD72-CEA3-4AF5-AB11-7D72B701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4D97-C1FC-4C7F-8F48-03B812AF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6ADF-78EF-44CA-88D5-1945F5E1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9C78-592E-496C-96CB-1171F5A4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43EC-6273-4D89-AB61-980918742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36396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Switches - Cisco Nexus 3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064TQ-10GT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132Q-40GE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132Q-40GE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164Q-40GE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898800" y="3486240"/>
            <a:ext cx="134640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164Q-40GE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898800" y="3486240"/>
            <a:ext cx="134640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172PQ-10GE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172PQ-10GE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172TQ-10GT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172TQ-10GT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548P-10G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548P-10G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3726000" y="884160"/>
            <a:ext cx="16920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016Q-40GE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016Q-40GE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048TP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048TP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064PQ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064PQ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064TQ-10GT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Brett</cp:lastModifiedBy>
  <dcterms:modified xsi:type="dcterms:W3CDTF">2014-06-05T22:51:22Z</dcterms:modified>
  <cp:revision>5</cp:revision>
  <dc:subject/>
  <dc:title>Slide 1</dc:title>
</cp:coreProperties>
</file>